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4CB-C3DD-42F6-8715-EE2B32FB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55B-470F-4E66-A6B4-6EB277E4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5338-C4E3-454B-9986-3BCB4E17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43C1-48E8-406F-8EA9-BD58076B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F0B-7FE5-46EF-9F34-2CAEEC02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15F-8860-4411-A112-ED86ACD4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7ABC-1FC0-4245-BFC5-02A7AF5D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88F6-BEB8-4C7C-A186-9F2D03D7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0D4-F75B-4412-B9C6-8414ECCF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E9E-2B0D-49CF-8B43-839F7099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CE3-1A71-4380-AE53-DD25C8FD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31C6-C36E-419F-928D-36F6D0B6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21AA-3C25-4D28-8198-1D3D5B264355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t akarok lenni, ahol Te vagy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den nap jelenlétedben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m akarlak távolról látni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nj Magadhoz közel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t akarok lenni, ahol Te vagy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zess ösvényeden engem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níts meg a mennyei útr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ölts be Szent Szellemeddel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t Nálad lenni oly jó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ncs ahhoz hasonló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ztalod terítv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tjár dicsőséged fény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gyütt Vele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z tesz csak boldoggá engem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re szomjazom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zután vágyódon é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Ó, Istenem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 vagy erősségem, énekem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ikor megérint Szelleme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új dal fakad szívembe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32720" y="260280"/>
            <a:ext cx="409680" cy="432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16:01:29Z</dcterms:created>
  <dc:creator>Baptista Gyülekezet</dc:creator>
  <dc:description/>
  <dc:language>en-US</dc:language>
  <cp:lastModifiedBy>Baptista Gyülekezet</cp:lastModifiedBy>
  <dcterms:modified xsi:type="dcterms:W3CDTF">2006-03-04T16:01:30Z</dcterms:modified>
  <cp:revision>1</cp:revision>
  <dc:subject/>
  <dc:title>Ott akarok lenni, ahol Te vagy, Minden nap jelenlétedben, Nem akarlak távolról látni, Vonj Magadhoz közel!</dc:title>
</cp:coreProperties>
</file>